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5F13-383E-403F-AF8E-873A746C2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7501-7B5C-474E-8D95-BEC0A01E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B39E-EC00-48E5-8DC2-690EA3A1F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3E7F-FA51-4EBA-BDF3-8B2142146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BF33-C41F-4B60-8056-3ED25236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2908-7C9F-4436-9A7D-87FF26E0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C34D-CFFC-43F2-BEE6-A75B239D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0545-8F26-45CC-BF77-6D4EBC8B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7632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0A2E-D330-4680-ABCA-9F727F6C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0032-6B33-45B7-96AD-7CCC0FD9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7D40-539A-4E96-8BC0-ACF642B1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6568-CCE1-4B4E-B373-DBBCB1F8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BDB8-A48F-4DC4-B997-FEFBA04F24B5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343680" y="5940360"/>
            <a:ext cx="267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ManTech Propriet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NATO – October Status Summary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13320" y="593640"/>
            <a:ext cx="44114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Awards: W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- No activ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wards: Pe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ct amendment for one additional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at NTM-I (Camp Dublin)            $ 0.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PE Equipment / Training                                   $ 1.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roposal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urr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ultiple 1- 3 position                                        $ 1.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roposals: Los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- No activ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FP’s Upcoming/ Under Revie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JCCC (ISAF HQ, Bosnia, KAF)                      $ 50.0 M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RF DC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$ 3.0 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CCS  (ADP Suppor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$ 3.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arge VTC Desktop to Suite RFP                   $ 3.0 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ATO Business Ent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anTech Global Systems Corporation (MG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November 15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perational/Implementation meeting in Brussels               11th &amp; 12th of December, 200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ersonn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mployees –  19  (24%) (Need updated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nsultants – 59  (76%) (Need updated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7680" y="546120"/>
            <a:ext cx="4249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urrent Contract Activity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TM-I (Joint MSS &amp;DS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tand up of Camp Dublin network under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- FSA expected prior to years 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VT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NTM-I – Second  of two systems op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- FSA expected prior to years 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udio VT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le source request to design two more VTC systems (Norfolk &amp; Brussels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90440" y="2543040"/>
          <a:ext cx="4238640" cy="3544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2543040"/>
                    <a:ext cx="423864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B07F-864B-4E15-B27B-9B38EA044E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7T02:41:51Z</dcterms:created>
  <dc:creator>T.I. Weintraub</dc:creator>
  <dc:description/>
  <dc:language>en-US</dc:language>
  <cp:lastModifiedBy>My PC</cp:lastModifiedBy>
  <dcterms:modified xsi:type="dcterms:W3CDTF">2007-11-22T08:03:13Z</dcterms:modified>
  <cp:revision>1671</cp:revision>
  <dc:subject>BD Review - ManTech Space Systems</dc:subject>
  <dc:title>PowerPoint Presentation</dc:title>
</cp:coreProperties>
</file>